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4839606-191E-4BD7-8921-B3D6FB74B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DEC70BD-41FD-4C61-B651-6BA049A65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CB46230-C3C4-4407-8728-5B8E3D298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5CD25BC-BCAB-43AC-A811-C5B084F44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3B48A-5213-46FA-9A6F-4C42C8A07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43AF3-8AEA-4E8C-B861-4811F6D60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C31B5-4909-437A-B5E0-EB7731F03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F9461-F80B-4D61-AB8B-1B80DF1FB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58A01-4590-46EC-9901-6109EE6EA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DA941-4CC7-46FD-9EB5-AD5FDD748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A8460-89EE-42A4-A7C3-ABD5A9E62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9BC7D3-431C-4EEE-8493-EB42BFEFC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D5E83-D2DA-41B2-A728-475C7C41A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97619-EA62-4CB7-B2F3-FEFA11635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E8122-7C31-45BD-BD9C-0AE0A80A3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6531C-D903-4EBA-AD9B-88C1E0035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3B3C2-8B99-4E34-905D-017045546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C7E543-21AD-4428-AA5B-4609C8483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C9E70C-4F6F-4D30-9F15-43DB92CAA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A6C1A3-599D-4DE9-824E-639B7C1DB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9680D9-85BE-40FC-8BA1-EFA43E473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139853-E7D5-40C1-89B7-DDF034FD3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B0E79C-E707-451A-81CC-7D188BAB1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924A24-C79C-4DA0-93FA-5C2BD283F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07C6-FC5C-478C-992A-9EE010951A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3ED0-D337-4211-A2CB-342A344DB4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es/imgres?imgurl=http://www.illiterarty.com/files/www.illiterarty.com/img/246/the_shining.jpg&amp;imgrefurl=http://www.illiterarty.com/reviews/book-review-shining-stephen-king&amp;h=475&amp;w=289&amp;sz=40&amp;hl=es&amp;start=4&amp;tbnid=bVIvDVIvXY5M_M:&amp;tbnh=129&amp;tbnw=78&amp;prev=/images%3Fq%3Dthe%2Bshinning%2Bbook%26gbv%3D2%26hl%3Des" TargetMode="External"/><Relationship Id="rId2" Type="http://schemas.openxmlformats.org/officeDocument/2006/relationships/image" Target="../media/image3.jpeg"/><Relationship Id="rId3" Type="http://schemas.openxmlformats.org/officeDocument/2006/relationships/hyperlink" Target="http://images.google.es/imgres?imgurl=http://eur.i1.yimg.com/eur.yimg.com/ng/mo/uno/20060906/10/3203982332.jpg&amp;imgrefurl=http://es.movies.yahoo.com/i/it/photos-1241167-1241168.html&amp;h=425&amp;w=300&amp;sz=32&amp;hl=es&amp;start=3&amp;tbnid=oAxz67MW7u6PHM:&amp;tbnh=126&amp;tbnw=89&amp;prev=/images%3Fq%3Dit%26gbv%3D2%26hl%3De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ache.viewimages.com/xc/72429642.jpg%3Fv%3D1%26c%3DViewImages%26k%3D2%26d%3D17A4AD9FDB9CF19390335F8FA9CA92A647C40FE7A2B787C26B49E290EC96DE79&amp;imgrefurl=http://www.viewimages.com/Search.aspx%3Fmid%3D72429642%26epmid%3D3%26partner%3DGoogle&amp;h=594&amp;w=436&amp;sz=54&amp;hl=en&amp;start=14&amp;um=1&amp;tbnid=6-Hnncm_eWy9vM:&amp;tbnh=135&amp;tbnw=99&amp;prev=/images%3Fq%3Dstephen%2Bking%26um%3D1%26hl%3Den%26sa%3DN" TargetMode="External"/><Relationship Id="rId2" Type="http://schemas.openxmlformats.org/officeDocument/2006/relationships/image" Target="../media/image6.jpeg"/><Relationship Id="rId3" Type="http://schemas.openxmlformats.org/officeDocument/2006/relationships/hyperlink" Target="http://images.google.com/imgres?imgurl=http://www.sffaudio.com/images06/SIMONANDSHUSTERCell500.jpg&amp;imgrefurl=http://www.sffaudio.com/%3Fm%3D200605&amp;h=500&amp;w=434&amp;sz=54&amp;hl=en&amp;start=50&amp;um=1&amp;tbnid=OJdJh4bU3ZgrXM:&amp;tbnh=130&amp;tbnw=113&amp;prev=/images%3Fq%3Dstephen%2Bking%26start%3D40%26ndsp%3D20%26um%3D1%26hl%3Den%26sa%3DN" TargetMode="External"/><Relationship Id="rId4" Type="http://schemas.openxmlformats.org/officeDocument/2006/relationships/image" Target="../media/image7.jpeg"/><Relationship Id="rId5" Type="http://schemas.openxmlformats.org/officeDocument/2006/relationships/hyperlink" Target="http://images.google.com/imgres?imgurl=http://www.allmoviezone.com/wp-content/uploads/2007/05/misery.jpg&amp;imgrefurl=http://www.allmoviezone.com/category/stephen-king-novel-adaptations/&amp;h=540&amp;w=370&amp;sz=58&amp;hl=en&amp;start=56&amp;um=1&amp;tbnid=fjXb9HGKZGixIM:&amp;tbnh=132&amp;tbnw=90&amp;prev=/images%3Fq%3Dstephen%2Bking%26start%3D40%26ndsp%3D20%26um%3D1%26hl%3Den%26sa%3DN" TargetMode="External"/><Relationship Id="rId6" Type="http://schemas.openxmlformats.org/officeDocument/2006/relationships/image" Target="../media/image8.jpeg"/><Relationship Id="rId7" Type="http://schemas.openxmlformats.org/officeDocument/2006/relationships/hyperlink" Target="http://images.google.com/imgres?imgurl=http://l.yimg.com/img.movies.yahoo.com/ymv/us/img/flickr/21/30/001485432130.jpg&amp;imgrefurl=http://movies.yahoo.com/holiday-movies/The-Mist/1809834165/photos/129/3943&amp;h=1177&amp;w=800&amp;sz=196&amp;hl=en&amp;start=66&amp;um=1&amp;tbnid=nURtC-6nY_p8EM:&amp;tbnh=150&amp;tbnw=102&amp;prev=/images%3Fq%3Dstephen%2Bking%26start%3D60%26ndsp%3D20%26um%3D1%26hl%3Den%26sa%3DN" TargetMode="External"/><Relationship Id="rId8" Type="http://schemas.openxmlformats.org/officeDocument/2006/relationships/image" Target="../media/image9.jpeg"/><Relationship Id="rId9" Type="http://schemas.openxmlformats.org/officeDocument/2006/relationships/hyperlink" Target="http://images.google.com/imgres?imgurl=http://www.stephenkingaudiobooksonline.com/Carrie_lg_sn124.jpg&amp;imgrefurl=http://www.stephenkingaudiobooksonline.com/&amp;h=400&amp;w=342&amp;sz=42&amp;hl=en&amp;start=6&amp;um=1&amp;tbnid=TjhlzwrJJmcGWM:&amp;tbnh=124&amp;tbnw=106&amp;prev=/images%3Fq%3Dstephen%2Bking%2BCARRIE%26um%3D1%26hl%3Den" TargetMode="External"/><Relationship Id="rId10" Type="http://schemas.openxmlformats.org/officeDocument/2006/relationships/image" Target="../media/image10.jpeg"/><Relationship Id="rId1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LIZED BY</a:t>
            </a: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ura lobo</a:t>
            </a:r>
            <a:endParaRPr b="0" lang="en-US" sz="3200" spc="-1" strike="noStrike">
              <a:solidFill>
                <a:srgbClr val="ffffff"/>
              </a:solidFill>
              <a:latin typeface="Garamond"/>
            </a:endParaRPr>
          </a:p>
        </p:txBody>
      </p:sp>
      <p:sp>
        <p:nvSpPr>
          <p:cNvPr id="101" name=""/>
          <p:cNvSpPr txBox="1"/>
          <p:nvPr/>
        </p:nvSpPr>
        <p:spPr>
          <a:xfrm>
            <a:off x="1547640" y="907920"/>
            <a:ext cx="5328000" cy="1944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TEPHEN KING</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02" name="" descr=""/>
          <p:cNvPicPr/>
          <p:nvPr/>
        </p:nvPicPr>
        <p:blipFill>
          <a:blip r:embed="rId1"/>
          <a:stretch/>
        </p:blipFill>
        <p:spPr>
          <a:xfrm>
            <a:off x="0" y="-87480"/>
            <a:ext cx="9144000" cy="6945480"/>
          </a:xfrm>
          <a:prstGeom prst="rect">
            <a:avLst/>
          </a:prstGeom>
          <a:ln w="0">
            <a:noFill/>
          </a:ln>
        </p:spPr>
      </p:pic>
      <p:sp>
        <p:nvSpPr>
          <p:cNvPr id="103" name=""/>
          <p:cNvSpPr txBox="1"/>
          <p:nvPr/>
        </p:nvSpPr>
        <p:spPr>
          <a:xfrm>
            <a:off x="2411280" y="1125360"/>
            <a:ext cx="5327640" cy="1944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514">
                    <a:alpha val="38000"/>
                  </a:srgbClr>
                </a:solidFill>
                <a:latin typeface="Impact"/>
              </a:rPr>
              <a:t>STEPHEN KING</a:t>
            </a:r>
            <a:endParaRPr b="0" lang="en-US" sz="1800" spc="1" strike="noStrike">
              <a:ln w="9360">
                <a:solidFill>
                  <a:srgbClr val="000000"/>
                </a:solidFill>
                <a:miter/>
              </a:ln>
              <a:solidFill>
                <a:srgbClr val="000514">
                  <a:alpha val="38000"/>
                </a:srgbClr>
              </a:solidFill>
              <a:latin typeface="Impact"/>
              <a:ea typeface="Impact"/>
            </a:endParaRPr>
          </a:p>
        </p:txBody>
      </p:sp>
      <p:sp>
        <p:nvSpPr>
          <p:cNvPr id="104" name=""/>
          <p:cNvSpPr/>
          <p:nvPr/>
        </p:nvSpPr>
        <p:spPr>
          <a:xfrm>
            <a:off x="2843280" y="5805360"/>
            <a:ext cx="4562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nard MT Condensed"/>
              </a:rPr>
              <a:t>REALIZED B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Laura lo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6" name=""/>
          <p:cNvSpPr/>
          <p:nvPr/>
        </p:nvSpPr>
        <p:spPr>
          <a:xfrm>
            <a:off x="468360" y="2941920"/>
            <a:ext cx="7559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 descr=""/>
          <p:cNvPicPr/>
          <p:nvPr/>
        </p:nvPicPr>
        <p:blipFill>
          <a:blip r:embed="rId1"/>
          <a:stretch/>
        </p:blipFill>
        <p:spPr>
          <a:xfrm>
            <a:off x="0" y="260280"/>
            <a:ext cx="9144000" cy="6599160"/>
          </a:xfrm>
          <a:prstGeom prst="rect">
            <a:avLst/>
          </a:prstGeom>
          <a:ln w="0">
            <a:noFill/>
          </a:ln>
        </p:spPr>
      </p:pic>
      <p:sp>
        <p:nvSpPr>
          <p:cNvPr id="108" name=""/>
          <p:cNvSpPr/>
          <p:nvPr/>
        </p:nvSpPr>
        <p:spPr>
          <a:xfrm>
            <a:off x="-1405080" y="1628640"/>
            <a:ext cx="8460000" cy="1191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hiller"/>
              </a:rPr>
              <a:t>Stephen Edwin King was born in Portland, Maine in 1947, the second son of Donald and Nellie Ruth Pillsbury King.</a:t>
            </a:r>
            <a:r>
              <a:rPr b="1" i="1" lang="en-US" sz="2400" spc="-1" strike="noStrike">
                <a:solidFill>
                  <a:srgbClr val="ffffff"/>
                </a:solidFill>
                <a:latin typeface="Chiller"/>
              </a:rPr>
              <a:t> </a:t>
            </a:r>
            <a:endParaRPr b="0" lang="en-US" sz="2400" spc="-1" strike="noStrike">
              <a:solidFill>
                <a:srgbClr val="ffffff"/>
              </a:solidFill>
              <a:latin typeface="Arial"/>
            </a:endParaRPr>
          </a:p>
        </p:txBody>
      </p:sp>
      <p:sp>
        <p:nvSpPr>
          <p:cNvPr id="109" name=""/>
          <p:cNvSpPr/>
          <p:nvPr/>
        </p:nvSpPr>
        <p:spPr>
          <a:xfrm>
            <a:off x="468360" y="2565360"/>
            <a:ext cx="763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His parents, Guy and Nellie Pillsbury, had become incapacitated in their old age, and Ruth King was persuaded by her sisters to take over the physical care of the elderly couple.</a:t>
            </a:r>
            <a:endParaRPr b="0" lang="en-US" sz="2400" spc="-1" strike="noStrike">
              <a:solidFill>
                <a:srgbClr val="ffffff"/>
              </a:solidFill>
              <a:latin typeface="Arial"/>
            </a:endParaRPr>
          </a:p>
        </p:txBody>
      </p:sp>
      <p:sp>
        <p:nvSpPr>
          <p:cNvPr id="110" name=""/>
          <p:cNvSpPr/>
          <p:nvPr/>
        </p:nvSpPr>
        <p:spPr>
          <a:xfrm>
            <a:off x="539640" y="3789360"/>
            <a:ext cx="7632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Stephen attended the grammar school in Durham and then Lisbon Falls High School, graduating in 1966. From his sophomore year at the University of Maine at Orono, he wrote a weekly column for the school newspaper, THE MAINE CAMPUS. He was also active in student politics, serving as a member of the Student Senat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620280"/>
            <a:ext cx="8229600" cy="597708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Stephen made his first professional short story tale ("The Glass Floor") for </a:t>
            </a:r>
            <a:r>
              <a:rPr b="1" i="1" lang="en-US" sz="2400" spc="-1" strike="noStrike">
                <a:solidFill>
                  <a:srgbClr val="ffffff"/>
                </a:solidFill>
                <a:latin typeface="Chiller"/>
              </a:rPr>
              <a:t>Startling Mystery Stories</a:t>
            </a:r>
            <a:r>
              <a:rPr b="1" lang="en-US" sz="2400" spc="-1" strike="noStrike">
                <a:solidFill>
                  <a:srgbClr val="ffffff"/>
                </a:solidFill>
                <a:latin typeface="Chiller"/>
              </a:rPr>
              <a:t> in 1967. Throughout the early years of his marriage, he continued to sell stories to men's magazines. Many of these were later gathered into the Night Shift collection or appeared in other anthologi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In the fall of 1971, Stephen began teaching high school English classes at Hampden Academy, the public high school in Hampden, Maine. Writing in the evenings and on the weekends, he continued to produce short stories and to work on novels.</a:t>
            </a:r>
            <a:endParaRPr b="0" lang="en-US" sz="2400" spc="-1" strike="noStrike">
              <a:solidFill>
                <a:srgbClr val="ffffff"/>
              </a:solidFill>
              <a:latin typeface="Garamond"/>
            </a:endParaRPr>
          </a:p>
        </p:txBody>
      </p:sp>
      <p:pic>
        <p:nvPicPr>
          <p:cNvPr id="112" name="" descr="">
            <a:hlinkClick r:id="rId1"/>
          </p:cNvPr>
          <p:cNvPicPr/>
          <p:nvPr/>
        </p:nvPicPr>
        <p:blipFill>
          <a:blip r:embed="rId2"/>
          <a:stretch/>
        </p:blipFill>
        <p:spPr>
          <a:xfrm>
            <a:off x="755640" y="3500280"/>
            <a:ext cx="2268720" cy="2737080"/>
          </a:xfrm>
          <a:prstGeom prst="rect">
            <a:avLst/>
          </a:prstGeom>
          <a:ln w="0">
            <a:noFill/>
          </a:ln>
        </p:spPr>
      </p:pic>
      <p:pic>
        <p:nvPicPr>
          <p:cNvPr id="113" name="" descr="">
            <a:hlinkClick r:id="rId3"/>
          </p:cNvPr>
          <p:cNvPicPr/>
          <p:nvPr/>
        </p:nvPicPr>
        <p:blipFill>
          <a:blip r:embed="rId4"/>
          <a:stretch/>
        </p:blipFill>
        <p:spPr>
          <a:xfrm>
            <a:off x="5670720" y="3573360"/>
            <a:ext cx="183024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BOOKS</a:t>
            </a:r>
            <a:endParaRPr b="1" lang="en-US" sz="4400" spc="-1" strike="noStrike">
              <a:solidFill>
                <a:srgbClr val="e5e5ff"/>
              </a:solidFill>
              <a:latin typeface="Garamond"/>
            </a:endParaRPr>
          </a:p>
        </p:txBody>
      </p:sp>
      <p:sp>
        <p:nvSpPr>
          <p:cNvPr id="115" name="PlaceHolder 2"/>
          <p:cNvSpPr>
            <a:spLocks noGrp="1"/>
          </p:cNvSpPr>
          <p:nvPr>
            <p:ph/>
          </p:nvPr>
        </p:nvSpPr>
        <p:spPr>
          <a:xfrm>
            <a:off x="971280" y="1483920"/>
            <a:ext cx="817236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The mist of Stephen King (2008)</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1408 (2007)</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Dolores Clairborne(1995)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The Shawsank Redemption(1994)</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The Mangler(1993)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The Children of Corn II (1993)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Dark Half(1993)</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Needful Things (1993)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The Lawnmower Man(1992)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Sleepwalkers (1992)</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It (1990)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Some adapted books and screep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isery (1990)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Night of the Living Dead (1989)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hiller"/>
              </a:rPr>
              <a:t>Stand by Me (1986)</a:t>
            </a:r>
            <a:r>
              <a:rPr b="1" lang="en-US" sz="2800" spc="-1" strike="noStrike">
                <a:solidFill>
                  <a:srgbClr val="ffffff"/>
                </a:solidFill>
                <a:latin typeface="Chiller"/>
              </a:rPr>
              <a:t>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Cat´s Eye(1985)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The dead zone(1983)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 </a:t>
            </a:r>
            <a:r>
              <a:rPr b="1" lang="en-US" sz="2800" spc="-1" strike="noStrike">
                <a:solidFill>
                  <a:srgbClr val="ffffff"/>
                </a:solidFill>
                <a:latin typeface="Chiller"/>
              </a:rPr>
              <a:t>Christine (1983)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 </a:t>
            </a:r>
            <a:r>
              <a:rPr b="1" lang="en-US" sz="2800" spc="-1" strike="noStrike">
                <a:solidFill>
                  <a:srgbClr val="ffffff"/>
                </a:solidFill>
                <a:latin typeface="Chiller"/>
              </a:rPr>
              <a:t>Creepshow 2 (1982) actor,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The Shining (1980)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Carrie (1976)  Screenpl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PHOTOS</a:t>
            </a:r>
            <a:endParaRPr b="1" lang="en-US" sz="4400" spc="-1" strike="noStrike">
              <a:solidFill>
                <a:srgbClr val="e5e5ff"/>
              </a:solidFill>
              <a:latin typeface="Garamond"/>
            </a:endParaRPr>
          </a:p>
        </p:txBody>
      </p:sp>
      <p:pic>
        <p:nvPicPr>
          <p:cNvPr id="119" name="" descr="">
            <a:hlinkClick r:id="rId1"/>
          </p:cNvPr>
          <p:cNvPicPr/>
          <p:nvPr/>
        </p:nvPicPr>
        <p:blipFill>
          <a:blip r:embed="rId2"/>
          <a:stretch/>
        </p:blipFill>
        <p:spPr>
          <a:xfrm>
            <a:off x="1332000" y="1989000"/>
            <a:ext cx="2217600" cy="3024360"/>
          </a:xfrm>
          <a:prstGeom prst="rect">
            <a:avLst/>
          </a:prstGeom>
          <a:ln w="0">
            <a:noFill/>
          </a:ln>
        </p:spPr>
      </p:pic>
      <p:pic>
        <p:nvPicPr>
          <p:cNvPr id="120" name="" descr="">
            <a:hlinkClick r:id="rId3"/>
          </p:cNvPr>
          <p:cNvPicPr/>
          <p:nvPr/>
        </p:nvPicPr>
        <p:blipFill>
          <a:blip r:embed="rId4"/>
          <a:stretch/>
        </p:blipFill>
        <p:spPr>
          <a:xfrm>
            <a:off x="7142040" y="549360"/>
            <a:ext cx="2001960" cy="2303280"/>
          </a:xfrm>
          <a:prstGeom prst="rect">
            <a:avLst/>
          </a:prstGeom>
          <a:ln w="0">
            <a:noFill/>
          </a:ln>
        </p:spPr>
      </p:pic>
      <p:pic>
        <p:nvPicPr>
          <p:cNvPr id="121" name="" descr="">
            <a:hlinkClick r:id="rId5"/>
          </p:cNvPr>
          <p:cNvPicPr/>
          <p:nvPr/>
        </p:nvPicPr>
        <p:blipFill>
          <a:blip r:embed="rId6"/>
          <a:stretch/>
        </p:blipFill>
        <p:spPr>
          <a:xfrm>
            <a:off x="3635280" y="1197000"/>
            <a:ext cx="2355840" cy="3456000"/>
          </a:xfrm>
          <a:prstGeom prst="rect">
            <a:avLst/>
          </a:prstGeom>
          <a:ln w="0">
            <a:noFill/>
          </a:ln>
        </p:spPr>
      </p:pic>
      <p:pic>
        <p:nvPicPr>
          <p:cNvPr id="122" name="" descr="">
            <a:hlinkClick r:id="rId7"/>
          </p:cNvPr>
          <p:cNvPicPr/>
          <p:nvPr/>
        </p:nvPicPr>
        <p:blipFill>
          <a:blip r:embed="rId8"/>
          <a:stretch/>
        </p:blipFill>
        <p:spPr>
          <a:xfrm>
            <a:off x="5724360" y="2924280"/>
            <a:ext cx="1989360" cy="2923920"/>
          </a:xfrm>
          <a:prstGeom prst="rect">
            <a:avLst/>
          </a:prstGeom>
          <a:ln w="0">
            <a:noFill/>
          </a:ln>
        </p:spPr>
      </p:pic>
      <p:pic>
        <p:nvPicPr>
          <p:cNvPr id="123" name="" descr="">
            <a:hlinkClick r:id="rId9"/>
          </p:cNvPr>
          <p:cNvPicPr/>
          <p:nvPr/>
        </p:nvPicPr>
        <p:blipFill>
          <a:blip r:embed="rId10"/>
          <a:stretch/>
        </p:blipFill>
        <p:spPr>
          <a:xfrm>
            <a:off x="3851280" y="4653000"/>
            <a:ext cx="1762200" cy="206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8:33:33Z</dcterms:created>
  <dc:creator>Alumno51</dc:creator>
  <dc:description/>
  <dc:language>en-US</dc:language>
  <cp:lastModifiedBy>Alumno51</cp:lastModifiedBy>
  <dcterms:modified xsi:type="dcterms:W3CDTF">2008-06-09T09:13:37Z</dcterms:modified>
  <cp:revision>6</cp:revision>
  <dc:subject/>
  <dc:title>Diapositiva 1</dc:title>
</cp:coreProperties>
</file>